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031CB-B017-468A-A067-4A1DA5C20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8ADD0-8145-46BA-BBCE-DFED6E348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70A4F-3F5F-427D-8285-3F660A523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A0105-9C41-4A80-94E3-CC8FF3F3D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C6732-D1C8-4093-9332-F24D1E109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62E9E-4589-46EA-B5D0-B91A97161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B52AD-A21B-4ABF-9A95-CE2A659F1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CF9B7-7F37-42DB-81AB-5635718F7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EF2EA-7C04-4C54-837D-DC0CBA336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FEEBE-5380-46FD-8777-130E30233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8F9D8-A4B9-41CF-B02E-04F822F1D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8BBC4-CAD5-4169-8C32-A5927CB51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0E8D-F944-40BA-A3D1-5EF23581B1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YPES of RESEARCH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s for classification of types of Research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purpose</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method/proced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scriptive Research</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type that involves investigation related to a topic concerned with present sit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ion about the teaching skills used by school teach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ion about the study habits of university stud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 relational Research</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attempts to determine whether and to what degree a relationship exists between two or more quantifiable variab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of co relational research is to establish relationship or predict relationship between variab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usal comparative research</a:t>
            </a:r>
            <a:endParaRPr b="0" lang="en-US" sz="4400" spc="-1" strike="noStrike">
              <a:solidFill>
                <a:srgbClr val="000000"/>
              </a:solidFill>
              <a:latin typeface="Arial"/>
            </a:endParaRPr>
          </a:p>
        </p:txBody>
      </p:sp>
      <p:sp>
        <p:nvSpPr>
          <p:cNvPr id="64" name="PlaceHolder 2"/>
          <p:cNvSpPr>
            <a:spLocks noGrp="1"/>
          </p:cNvSpPr>
          <p:nvPr>
            <p:ph type="subTitle"/>
          </p:nvPr>
        </p:nvSpPr>
        <p:spPr>
          <a:xfrm>
            <a:off x="1447920" y="2514600"/>
            <a:ext cx="6400800" cy="17524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type of research in which researcher try to establish/search relationship between cause and effect but cause (Independent variable) is not in control of researcher( It has already occur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S: </a:t>
            </a:r>
            <a:r>
              <a:rPr b="0" lang="en-US" sz="4000" spc="-1" strike="noStrike">
                <a:solidFill>
                  <a:srgbClr val="000000"/>
                </a:solidFill>
                <a:latin typeface="Arial"/>
              </a:rPr>
              <a:t>Causal comparative research</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s of </a:t>
            </a:r>
            <a:r>
              <a:rPr b="0" lang="en-US" sz="2800" spc="-1" strike="noStrike" u="sng">
                <a:solidFill>
                  <a:srgbClr val="000000"/>
                </a:solidFill>
                <a:uFillTx/>
                <a:latin typeface="Arial"/>
              </a:rPr>
              <a:t>socio economic status</a:t>
            </a:r>
            <a:r>
              <a:rPr b="0" lang="en-US" sz="2800" spc="-1" strike="noStrike">
                <a:solidFill>
                  <a:srgbClr val="000000"/>
                </a:solidFill>
                <a:latin typeface="Arial"/>
              </a:rPr>
              <a:t> (SES) on learning achievement of stud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s of </a:t>
            </a:r>
            <a:r>
              <a:rPr b="0" lang="en-US" sz="2800" spc="-1" strike="noStrike" u="sng">
                <a:solidFill>
                  <a:srgbClr val="000000"/>
                </a:solidFill>
                <a:uFillTx/>
                <a:latin typeface="Arial"/>
              </a:rPr>
              <a:t>working Mothers</a:t>
            </a:r>
            <a:r>
              <a:rPr b="0" lang="en-US" sz="2800" spc="-1" strike="noStrike">
                <a:solidFill>
                  <a:srgbClr val="000000"/>
                </a:solidFill>
                <a:latin typeface="Arial"/>
              </a:rPr>
              <a:t> on school absenteeism</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Cause </a:t>
            </a:r>
            <a:r>
              <a:rPr b="1" lang="en-US" sz="2800" spc="-1" strike="noStrike">
                <a:solidFill>
                  <a:srgbClr val="000000"/>
                </a:solidFill>
                <a:latin typeface="Arial"/>
              </a:rPr>
              <a:t>SES  &amp; working mothers</a:t>
            </a:r>
            <a:r>
              <a:rPr b="0" lang="en-US" sz="2800" spc="-1" strike="noStrike">
                <a:solidFill>
                  <a:srgbClr val="000000"/>
                </a:solidFill>
                <a:latin typeface="Arial"/>
              </a:rPr>
              <a:t> ca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t be manipulated by researcher</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perimental Research</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is a type of research in which researcher manipulate independent variable (cause) and observe its effects on dependent variable (eff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ffectiveness of </a:t>
            </a:r>
            <a:r>
              <a:rPr b="0" lang="en-US" sz="3200" spc="-1" strike="noStrike" u="sng">
                <a:solidFill>
                  <a:srgbClr val="000000"/>
                </a:solidFill>
                <a:uFillTx/>
                <a:latin typeface="Arial"/>
              </a:rPr>
              <a:t>lecture</a:t>
            </a:r>
            <a:r>
              <a:rPr b="0" lang="en-US" sz="3200" spc="-1" strike="noStrike">
                <a:solidFill>
                  <a:srgbClr val="000000"/>
                </a:solidFill>
                <a:latin typeface="Arial"/>
              </a:rPr>
              <a:t> versus </a:t>
            </a:r>
            <a:r>
              <a:rPr b="0" lang="en-US" sz="3200" spc="-1" strike="noStrike" u="sng">
                <a:solidFill>
                  <a:srgbClr val="000000"/>
                </a:solidFill>
                <a:uFillTx/>
                <a:latin typeface="Arial"/>
              </a:rPr>
              <a:t>discussion method</a:t>
            </a:r>
            <a:r>
              <a:rPr b="0" lang="en-US" sz="3200" spc="-1" strike="noStrike">
                <a:solidFill>
                  <a:srgbClr val="000000"/>
                </a:solidFill>
                <a:latin typeface="Arial"/>
              </a:rPr>
              <a:t> on learning achievement of school level stud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ilarity between causal comparative and experimental research</a:t>
            </a:r>
            <a:endParaRPr b="0" lang="en-US" sz="3600" spc="-1" strike="noStrike">
              <a:solidFill>
                <a:srgbClr val="000000"/>
              </a:solidFill>
              <a:latin typeface="Arial"/>
            </a:endParaRPr>
          </a:p>
        </p:txBody>
      </p:sp>
      <p:sp>
        <p:nvSpPr>
          <p:cNvPr id="70" name="PlaceHolder 2"/>
          <p:cNvSpPr>
            <a:spLocks noGrp="1"/>
          </p:cNvSpPr>
          <p:nvPr>
            <p:ph/>
          </p:nvPr>
        </p:nvSpPr>
        <p:spPr>
          <a:xfrm>
            <a:off x="609480" y="2332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oth attempt to establish relationship between cause and effect ( independent and dependent vari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1066680"/>
            <a:ext cx="8153640" cy="111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ce between Causal Comparative and Experimental Research</a:t>
            </a:r>
            <a:endParaRPr b="0" lang="en-US" sz="3200" spc="-1" strike="noStrike">
              <a:solidFill>
                <a:srgbClr val="000000"/>
              </a:solidFill>
              <a:latin typeface="Arial"/>
            </a:endParaRPr>
          </a:p>
        </p:txBody>
      </p:sp>
      <p:sp>
        <p:nvSpPr>
          <p:cNvPr id="72"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causal comparative research cause (Independent variable) is not manipulated by researc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u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experimental research cause (Independent variable) is manipulated by researc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ypes of Research by Purpose</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d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and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ypes of Research by Metho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ve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 relational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l comparative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l resear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sic Research</a:t>
            </a:r>
            <a:endParaRPr b="0" lang="en-US" sz="4400" spc="-1" strike="noStrike">
              <a:solidFill>
                <a:srgbClr val="000000"/>
              </a:solidFill>
              <a:latin typeface="Arial"/>
            </a:endParaRPr>
          </a:p>
        </p:txBody>
      </p:sp>
      <p:sp>
        <p:nvSpPr>
          <p:cNvPr id="48"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of basic research is </a:t>
            </a:r>
            <a:r>
              <a:rPr b="1" lang="en-US" sz="2800" spc="-1" strike="noStrike">
                <a:solidFill>
                  <a:srgbClr val="000000"/>
                </a:solidFill>
                <a:latin typeface="Arial"/>
              </a:rPr>
              <a:t>development of theory or refinement of theo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losely to laboratory cond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concerned with applic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 put of basic research</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y</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tions for solving problem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reinforcement theory for school level student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a plan for effective teaching at school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pplied Research</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 research is concerned with the application of theory to the solution of problems, testing theory, evaluation of theory in solving probl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with applicabi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ned with testing utility of theory/ principl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ness of programmed instruction for school stud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ness of laws of motivatio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ness of use of internet for school level student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aluation Research</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of evaluation research is to facilitate decision making regarding the relative worth of two or more alternative action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of effectiveness of lecture vs bookish method for primary level teach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of impact of multimedia vs writing bo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earch and Developmen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rpose of research and development is to develop effective products for use in educational institu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material developmen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text book material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tes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teacher training materi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on Research</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rpose of Action research is to solve classroom practical problems through application of scientific method of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storical Research</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nvolves studying ,understanding, and explanation of past events to arrive on conclusions concerning cause ,effects and trends of past occurrences that can help to explain present and predict about the fut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investigation about the Reasons for failure of students in English at BA Level during session 2000-2010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historical research primary sources of data collection must be used and secondary sources of data reporting must be avoi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3T12:31:52Z</dcterms:created>
  <dc:creator>Asim</dc:creator>
  <dc:description/>
  <dc:language>en-US</dc:language>
  <cp:lastModifiedBy>EDU</cp:lastModifiedBy>
  <dcterms:modified xsi:type="dcterms:W3CDTF">2014-12-17T17:30:21Z</dcterms:modified>
  <cp:revision>96</cp:revision>
  <dc:subject/>
  <dc:title>RESEARCH METHODS</dc:title>
</cp:coreProperties>
</file>